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CF0A-11FB-44E6-AC31-5C9B11FD9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34FE-0DBD-4819-91D9-30E29B97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46DB-14DC-4CC6-9C82-029DE6060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520F-439E-4290-88CE-826047E52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06BA-88D0-4839-9D8B-B50463D9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A283-3A31-4C54-9360-C27A1105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837A-7755-45D6-8DC9-2AA8A03C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978A-7646-4522-B727-52E2A449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03AD-1B54-49A9-83CC-C4939565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F779-540F-4F21-91F3-7E336F92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A605-EC24-4292-A300-92E4ED46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52FC-2948-45EA-94BD-FBC943E8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6392-D2AE-44A4-80FB-E1AF15007E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8600" y="304920"/>
            <a:ext cx="853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uf ein Stücken Papier, schreib deinen Name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uf ein anderes, schreib ein Körperteil mit der/die/d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80880" y="2971800"/>
            <a:ext cx="8305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hreib ein Briefchen mit einer “Gute Besserung” Wuns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Übersetze “I heard that you hurt your…”  Es tut mir Leid das zu hör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Tell him/her that you heard how they did it.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heard that you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hreib 6 Sätz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20:33:44Z</dcterms:created>
  <dc:creator>ahart</dc:creator>
  <dc:description/>
  <dc:language>en-US</dc:language>
  <cp:lastModifiedBy>ahart</cp:lastModifiedBy>
  <dcterms:modified xsi:type="dcterms:W3CDTF">2013-02-19T20:37:59Z</dcterms:modified>
  <cp:revision>1</cp:revision>
  <dc:subject/>
  <dc:title>Slide 1</dc:title>
</cp:coreProperties>
</file>